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94D-39A9-4316-B8A0-89283C9A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36A-736F-443C-B059-EABD0D55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E81-C949-4BC1-B892-D919345F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E87-1A5F-4B56-879F-E6F4282F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4CA0-654D-4BC1-9B5F-29EF9757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09C1-599D-4FE7-8975-CEAD9EA2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C66-0145-4E52-B928-C58C9CC6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41E3-5ECE-4131-9F6E-4701DD7F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5F18-A5BD-433D-A5CF-61DF368B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8D65-6D26-4F5E-9EFB-D0FEE04F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4C2A-3CBC-4C8C-9045-F11A5779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5DA-8106-499A-82CB-00C305A5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AAC3-7287-4108-9BAE-3FAA8790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A16E-0961-4093-B08F-20369C2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1FEA-C76E-4FAA-9D65-06E307FC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A436-5E30-4EBC-ACDA-3CAF1A58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5C8A-25F0-4C6F-830B-B733A8FF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EEBC-239C-46B4-A2C5-BB2345DA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0FE4-C493-443A-9BAD-3E68B353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EECC-DE7A-47E4-93B8-2A26A35D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D904-1C1E-462B-9468-93757148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D8A6-BA2A-4A18-A7CC-632969EF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087-5559-4B51-9811-3832DA19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BE7C-E895-4D1F-A2D9-66100E5E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CFC1-5B91-4E73-8854-7D94B1FE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1601-7DED-4506-AC54-B610951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AFBA-9495-4361-8930-95B033C5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77F1-B793-48EC-BFA8-DB164B8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0A27-941B-4C86-8DAF-EDA84B94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AC5E-080F-4DA7-86D5-4C675221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D26-D121-46E6-B4CD-7233AE67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A89-9514-49CD-994C-6589891D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B2C-7897-452D-8D76-B62B1A5E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ADE-7AB6-4E94-A364-FF1A4AC7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E43-EB0A-4D04-99E9-E85559D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810-E35F-4679-AB04-1BB63B7E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0E76-0E69-4DF1-844B-A45BC5B6262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CFE7-DCD1-40B7-8C45-03CFEEAC7EEC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019240" y="6652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3ED9-C96B-4EF7-B3DB-6F1AA6472E21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A6AE-31AD-45EA-81C4-8102AC495B4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ZoneTexte 6"/>
          <p:cNvSpPr/>
          <p:nvPr/>
        </p:nvSpPr>
        <p:spPr>
          <a:xfrm>
            <a:off x="393840" y="2031840"/>
            <a:ext cx="79754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a1f1d"/>
                </a:solidFill>
                <a:latin typeface="Verdana"/>
                <a:ea typeface="Angsana New"/>
              </a:rPr>
              <a:t>FOOD SECURITY IN INDONESI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Overview - Indonesia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60 million people living in more than 1900 islan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bout 60% of them in rural area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ery decentralized system in 440 districts, 33 provi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DGs: only 3 targets are off tracks: Maternal mortality, HIV infection and fores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verty rate declines fr 35% in 97 to below 15% in 2009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alnutrition among children declines from 8% to 2.1% in 2009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Food Security &amp; Poverty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Cordia New"/>
              </a:rPr>
              <a:t>Surplus of rice production in last 2 yrs after 7 year  net import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Cordia New"/>
              </a:rPr>
              <a:t>Production mainly in Java, Sumatera, Sulawesi – other islands are dependent to shipping, waves etc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Cordia New"/>
              </a:rPr>
              <a:t>Inequalities among districts in terms of no. of poor people, availability of natural resources, fiscal capacity etc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Nutrition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gh prevalence of stunting nationwid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gh prevalence of iron deficiencies, and iodine and vit. A in some reg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cket of malnutrition and hunger in some districts (East and West Nusatenggara and Papua provinces) due to longer dry seasons (drought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No EC funded programme but the regional on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Social protection programm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untry wide cash transfer to poor families in the last 5 yrs – now moves to Conditional cash transfer focused on health &amp; education indicators – piloted in 6 provi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untry wide CDD programme: USD 100,000/sub-district for basic infrastructure (irrigation, roads, health facilities etc.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bsidized rice distribution to poor families in priority provinces in the last 5 y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untry wide health insurance and scholarship for poor famil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provide TA to CDD and C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8T21:46:52Z</dcterms:modified>
  <cp:revision>908</cp:revision>
  <dc:subject/>
  <dc:title>No Slide Title</dc:title>
</cp:coreProperties>
</file>